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8CA-B732-41BC-AE06-FAFFD0A1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A99-D60C-4DDD-8F75-F2DC0AFB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FDF-CFDE-45B7-9596-A739CFA9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8B3-D606-4D94-B352-16B776D8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0D2E-BBAB-426E-B5C0-9C23A351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BFA1-5D00-413C-AB2E-0E40E984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2C8A-A79F-45F5-93B1-FD5BD086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4C94-F0CE-4F6B-A974-C614B8B5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CF35-1BCE-4571-A140-24F470DE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1594-BDBD-4F13-911A-289CD3DD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793D-E2F7-407A-BBD8-ED05A879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ECC9-7803-476B-89E2-BDC85FD0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B074-438F-4AEC-BBB0-E9A13070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9376-71CD-4F9D-89BA-B98444CB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BA34-A247-4E09-8067-1CF875A7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FDD9-A259-42BF-AA35-B92662CF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A943-8EBD-433E-822E-9371C11B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8B6-EC0B-4AE2-A63D-C09381ED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B4A-B727-485F-865D-BC70576F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542-B8F1-4502-84E9-45FA74C5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A0D-E30E-435E-8C7C-C95234D9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5A2-5F92-48A3-964E-DC4E3BD9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0DE-A3B1-4059-8245-3838FC90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F03-A0E2-47A5-9864-4DB7055C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3FC0-1CDA-438F-A320-1C256870BB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7757-189E-44DA-BDAF-8F32E006BB84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642960" y="282888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авилна исхран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вод у школску хигијену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вод у менталну хигије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357200" y="471492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са епидемиологиј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а недеља наста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0" y="0"/>
            <a:ext cx="91440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Јаје је намирница која има велику биолошку вредност и то пре свега због високо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валитетних беланчевин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12-13%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садр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е есенцијалне аминокиселин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 одговарајућем односу, а могућност искоришћења је потпу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 (100%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јвише холестерола има у жуманцету (30%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уманце је богато F, Ca i F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а има 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итамина: А и 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крављем млеку им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8% вод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% протеина (80% казеина), лак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бумина, лактглобулина, имуноглобулина и албумина крвног серу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-6% ма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нералних материја (Ca, F, K, Na, M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тамина (A, D, E, B grupe, 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0" y="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схрани људи масти се користе као издвојена хр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видљиве ма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зистенци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кујем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обијају с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животињских произв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 (уља-добијају се из биљ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рекл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кујем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животињског порек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њска ма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биљног порек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е из семенк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е из маслин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га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ргари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 добијен из биљних уља посебн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aјчешћe му с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aдрж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80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вод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не кисел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5911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један од најзначајнијих чинилаца неопходних за очување и унапређење здравља појединца и целе нациј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</a:t>
            </a: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 више аспекат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них намирниц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исправ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алансиран унос нутриен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морају бити квалитетне, одговарајућих особина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, мирис, укус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иселост) и здравствено безбедне-не треба да буду загађене штетним агенсима који могу да оштете здравље људи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к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емијским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шким металима, пестицид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,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ма, антибиотицима и др.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иолошким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актеријама, вирусима, паразитима, гљивицама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намир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 се изглед намирнице и 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одступања од особина нормалног изгле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спољне повр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сека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ина, еластицитет, боја, мирис, уку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 примесе(нпр.инсекти, плесни, песак, земља, делови амба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и д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паковања намирнице (амбал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паковање одговарај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 или постоје промене обл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етикет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кларације)-рок употребе, састав намирнице, произв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бактериол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исправност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, број и врста бактериј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снову важећег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илник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сваку врсту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иљ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ти број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небезбедне хр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налаз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ји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узорци се узимају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ан н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, у стерилне судове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рилним прибор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у да микробиол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налаз не одговара захтевима датим Правилником, т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атр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небезбед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-физ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42680"/>
            <a:ext cx="88200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г састав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циљу 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безбед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ом се доказу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 ли намирница одгова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м саставу декларациј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је од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за ту намирницу и назн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на омоту намирниц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 ли намирница одгова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аставу Правилницима о састав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е садр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р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хемијска једињењ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тиве, пестициде, хормоне, антибиотике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мета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 кол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 дозвољених Правилниц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за анализу се узоркују из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в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ан аспект правилне исхране, је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избалансиран унос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 хранљивих супстанци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еланчевина, масти, угљених хидрата, витамина и минерала, као и оптималан енергетски унос, потребних за задовољење физичких и интелектуалних посл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 и здравље људ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 - уравнотежена исхра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– комбинација различитих хемијски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нутријенти (протеини, угљени хидрати,маст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нутријенти (витамини, минерал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 за хра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зр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изиолошк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изичка актив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храњ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вике (стил живо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дравствен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пециф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948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 ЗА ЕНЕРГЕТСКИ УН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000080"/>
            <a:ext cx="85676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е потребе сваког појединца зависе 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потребне за одвијањ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лног метабол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потребн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у актив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 динамско дејство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нових тки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еца, труднице, дојиљ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0"/>
            <a:ext cx="9144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МИРНИЦ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у све оно што се користи као храна и пиће, у пре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ђеном или непрерађеном облику, као и зачини, боје и друге материје које се додају намирницама ради конзервисања, побољшања изгледа, укуса или мириса, обогаћивања и д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а исхра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је у Свету  прихваћен став да исхрану треба планирати у складу са препорукама у ,,Пирамиди исхране,,. Пирамида исхране представља графички приказ свих намирница које треба конзумирати у току да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ој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а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ок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дит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4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2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ч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уминоз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зграс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љив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о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ће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ткиш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tara piramida text out"/>
          <p:cNvPicPr/>
          <p:nvPr/>
        </p:nvPicPr>
        <p:blipFill>
          <a:blip r:embed="rId1"/>
          <a:stretch/>
        </p:blipFill>
        <p:spPr>
          <a:xfrm>
            <a:off x="1692360" y="0"/>
            <a:ext cx="5607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1763640" y="28875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Times New Roman"/>
              </a:rPr>
              <a:t>Школска хигије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хигије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аучна дисциплина која се бави проучавањем психофизичких карактеристика школске деце и омладине и услова њиховог живота и рада у шк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796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796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4272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АРАКТЕРИСТИКЕ РАСТА И РАЗВ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280" y="1628640"/>
            <a:ext cx="8280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1. Психички разво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2. Физички развој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000"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г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а и разво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лошки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урални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(телесна висин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(телесна мас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т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6000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280" y="-360"/>
            <a:ext cx="8280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рални раст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елесна висина-ТВ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људског живота постоје само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рођења до 2 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 живо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епубертету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јчице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чаци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 ових фаза је фаза интермедијарног спор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се завршава између 21 и 25 године живо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ле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лесна маса-ТТ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прати статурални ра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и у апсолутним вредностима је између 13 и 16 годи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зи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 кош до пубертета расте спорије од бисте,  у пубертету и касније расте прогресивно са растом бис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4000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9280" y="188640"/>
            <a:ext cx="82803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 разв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 развој респираторног система настаје тек по завршетку пуберт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убертета сва деца абдоминално диш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уберте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јчице дишу гор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аци дишу до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3 и 4 години живота величина срца се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ч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 се раст срца успорава и у телу одраслог човека се налази “дечије срце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1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571680"/>
            <a:ext cx="8209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раст и разво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од у коме су поодмакли процеси антропометријског и висцералног раста и развоја и када се стичу особине које омогућавају репродукцију.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манифестација овог раста је пуберте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ке карактеристике пубертет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физичке особ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ациј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статуралног и пондералног рас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карличних кост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9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0"/>
            <a:ext cx="9144000" cy="55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ела намирница по порек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љног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Во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Гљи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вотињског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о, риба, ј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еко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ти и уљ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аста и развоја</a:t>
            </a:r>
            <a:br>
              <a:rPr sz="4400"/>
            </a:b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 поремећа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1" lang="sr-Latn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финиција</a:t>
            </a:r>
            <a:r>
              <a:rPr b="0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21932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а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ет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ев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н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 следећ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брионал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ова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9917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ласификација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них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ja</a:t>
            </a:r>
            <a:r>
              <a:rPr b="0" lang="en-U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440" y="762120"/>
            <a:ext cx="8077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штећењ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нзор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лн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гнитив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игенци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њ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цептивних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окомотор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ту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тањ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офиј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в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торне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ретног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ракс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ичн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љењ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т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ж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моционалн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ж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иза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акт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акт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биноване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метњ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280" y="785520"/>
            <a:ext cx="8209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обољевања школске деце 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ладине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зн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разн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2000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Вирус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bi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b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c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o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nukle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p i d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851280" y="1643040"/>
            <a:ext cx="5292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Бактеријск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pto i stafilokokne infe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us, parati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usis i d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4000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olesti ra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izam (prividni, stvar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žinovski r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šav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jaz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f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oli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rmiteti donjih ekstremit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op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slu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572000" y="1214280"/>
            <a:ext cx="4140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emećaji organa i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ngenitalna kardiopat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matska kariopat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erijalna hipertenz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italni org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mo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kularna ektop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buminur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itentna (povolj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onič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tostat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j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rg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5000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9680" y="150012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Poremećaji govora, čitanja i pis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lek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rtograf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076720" y="1989000"/>
            <a:ext cx="385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Anomalije psihičkog razv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intelek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karak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motivis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noičan karak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abilnost mentalna i/ili motorič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9640" y="1213920"/>
            <a:ext cx="81360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b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matomik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tigo contagi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šlj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zitar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mi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0"/>
            <a:ext cx="914400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, жита и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церeалије су зрели плодoви култив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них биљакa у које спадaј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шениц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ча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к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Ова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Садр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0% угљених хидр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-16% проте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-7% м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минералне материј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калцијум, фосфор, гвожђе, бакар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витамине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групе, Е и Д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Производи од житарица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су :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Хлеб и пеци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42920" y="2858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иљног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изика из школске средине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утицајем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 деце и омлади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9640" y="1000080"/>
            <a:ext cx="81360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Школска згр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Учио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мештај и прибор за р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свет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анитарни чв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Хигијен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404640"/>
            <a:ext cx="813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згра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а се за најмање 20 до 30 год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радњи школске зграде битно је обратити пажњу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цију и положај обј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ју згра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ност од главних саобраћајница најмање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m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он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 за наставнике (зборн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дер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а и др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 за физичко васпит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иња са трпезариј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чв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9000"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штај и прибор за р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луп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 је растојање између вертикале спуштене са предње стране ивице стола и предње ивице столице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би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тајања)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писања, читања)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т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лушања предавања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 је вертикално или косо растојање између предње страње ивице стола и столице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 је да је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,5% 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 ученика плус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-4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среће диференца која је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ТВ дечака и17% ТВ девојчиц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9000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таб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тка, равна, без пукотина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е или зелене боје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ана или покрет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осветљењ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за организацију наставе и учењ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ак наставе у првом разреду од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сније од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е задатке не треба давати деци испод 10 годин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оре давати после сваког часа од 10 мин, осим после 3 часа 30 м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мете распоредити на почетку наставе средње тешки предмети, тешки,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ју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и предме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нцепт менталног здравља и менталне бол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ска здравствена организација дефинише ментално здрављ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стање социјалног и емотивног благостањ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ме особа остварује све своје способно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да подносе све животне стрес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 и плодно ради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и својој заједниц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001</a:t>
            </a: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Strengthening mental health promotio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Geneva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W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orld Health Organiz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-дефини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 је превентивна медицинска грана која представља скуп мера и специјализованих техника за спречавање менталних болести и унапређење менталног зрављ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611280" y="403200"/>
            <a:ext cx="7993080" cy="5721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611280" y="6093000"/>
            <a:ext cx="806436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моралност-способност појединца да сам себи изрекне правила којих се придржава (морално расуђивање и морално понашањ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- збир свих карактеристика једне особе које одређују њену јединственост и особеност, по чему се она разликује од свих други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укључује интелигенцију, темперамент, моралне и вољне елементе као трајне карактеристике једин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се развија и функционише у непрестаном процесу интеракција са средином које са своје стране утичу на њен даљи развој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мент- брзина, снага и трајање реаговања као и енергија која се при том ангажује и испоља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- описује оне аспекте личности који су одређени етичким и мо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им критеријумима, а испољавају се у социјалним интеракцијама („добар/лош чврст/слаб “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ли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1125360"/>
            <a:ext cx="868680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овертне личност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преосетљиве, повучене у себе, склоне претераној анализи себе и других, у ретком контакту са људ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овертне личност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творене, спретне у контактима, заинтересоване за друштвене акције, оптимистичне, неосетљиве на крит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она лично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 њене психофизичке функције реагују као цел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теграциона лично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њене психофизичке функције реагују одвоје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0" y="0"/>
            <a:ext cx="914400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Поврће обухвата плодове и делове повртарских биљака које се уобичајено користе у исхрани људи. То су најчешће: лишће, главице, луковице, кртоле,  махуне или стабло у свежем или прерађеном обл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према особинама и хранљивој вредност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толасто, коренасто и луковичасто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пир, шаргарепа, першу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вичасто и лиснато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пус, кељ, карфиол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хунасто и поврће са плодом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суљ, грашак, борани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Поврће садрж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највише воде, а најмање масти, па му је енергетска вредност ма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Богато је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Бe група, C, A, E, K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а –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чији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ивностима управља тради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ал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ом управља њена свест, која одређује њено понашање које је током детињства и касније уграђено у облику одређених вриједности и нор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амостална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 се у складу са представом других о њ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ентична личност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личност која развија своју индивидуалност и свој сопствени стил, њено понашање је стабилно, великих је интелектуалних способности, окренута ка будућ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утентична личност 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личност сасвим супротних особина од аутентичне 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и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 страх од промена, слепо се веже за друге, несигурна 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6118200" y="1744560"/>
            <a:ext cx="13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Diagram 28"/>
          <p:cNvGrpSpPr/>
          <p:nvPr/>
        </p:nvGrpSpPr>
        <p:grpSpPr>
          <a:xfrm>
            <a:off x="1436400" y="1757160"/>
            <a:ext cx="6274080" cy="3341880"/>
            <a:chOff x="1436400" y="1757160"/>
            <a:chExt cx="6274080" cy="3341880"/>
          </a:xfrm>
        </p:grpSpPr>
        <p:sp>
          <p:nvSpPr>
            <p:cNvPr id="175" name="_s1028"/>
            <p:cNvSpPr/>
            <p:nvPr/>
          </p:nvSpPr>
          <p:spPr>
            <a:xfrm>
              <a:off x="3725640" y="2350800"/>
              <a:ext cx="1697040" cy="16970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_s1029"/>
            <p:cNvSpPr/>
            <p:nvPr/>
          </p:nvSpPr>
          <p:spPr>
            <a:xfrm>
              <a:off x="3725640" y="17571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9966ff"/>
                  </a:solidFill>
                  <a:latin typeface="Times New Roman"/>
                  <a:ea typeface="Arial"/>
                </a:rPr>
                <a:t>наслеђ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_s1030"/>
            <p:cNvSpPr/>
            <p:nvPr/>
          </p:nvSpPr>
          <p:spPr>
            <a:xfrm>
              <a:off x="4284360" y="3319200"/>
              <a:ext cx="1697040" cy="16970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1031"/>
            <p:cNvSpPr/>
            <p:nvPr/>
          </p:nvSpPr>
          <p:spPr>
            <a:xfrm>
              <a:off x="6013440" y="4674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ff9900"/>
                  </a:solidFill>
                  <a:latin typeface="Times New Roman"/>
                  <a:ea typeface="Arial"/>
                </a:rPr>
                <a:t>средин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1032"/>
            <p:cNvSpPr/>
            <p:nvPr/>
          </p:nvSpPr>
          <p:spPr>
            <a:xfrm>
              <a:off x="3166920" y="3319200"/>
              <a:ext cx="1697040" cy="16970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1436400" y="4674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психичка и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физичка траум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завис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оза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ње алкохола у том степену да уживаоцима реме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ан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 и психички ми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станак утич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леђ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сихичка конституц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јална окол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овна производња алкохолних пић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ак живо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е материјално ста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з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и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ова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љењ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питни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а превенциј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 алкохолиз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дикаментоз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сихо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цио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д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ијарна превен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цијализ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коман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сихоактивних супстан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ор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Алкохол,седативи,испарљиви раствар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нс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икотин,кокаин,амфетамини,екстаз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јат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рфин,херо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уциноген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D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ху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о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е центар nervus-a vagus-a и еметички цент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лим дозама има стимулативно дејство, док у већим дозама прво изазива стимулацију, а после доводи до депресије нервног систем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сличан ацетилхолину, поспешује лучење допамина-изазива осећај задовољств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никотина по систем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емор, грчев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имулише дисање и респираторну секрециј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радикардија, касније тахикардија, аритмије, пораст ТА, вазоконстрикција коронарних крвних судова, оштећује зидове артерија, повећава наслаге холесторола, срчани мишић мора јаче да рад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учнина, повраћање, касније смањена моторна активност желуца и црев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жење зеница, касније проширењ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 ефекти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ћава гликемију, смањује диурез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емијс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а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ћ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“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ш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цк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ов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фармак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38052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ћн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зокомијал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че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с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уба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болничких инфек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а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бидите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ш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јев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а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болнич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ј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Ћ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оће чине посебне биљне врст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држи мешавину глукозе, фруктозе и сахароз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у различитим односима у зависности од врсте воћа.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Богато ј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C, A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ГЉИ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Биолошки су врло вредн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Користе се због специфичног укуса и мирис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адржај протеина до 2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503280" y="457200"/>
            <a:ext cx="784872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оболети болесни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шћ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о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а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компромитов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ш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е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в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тел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је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&gt; 10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182600" y="3049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ци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о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мис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рект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контаминирани предмети - опрема и инструмен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це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з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 болничких 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позити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aure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аза негативне стафилоко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негати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опортунистичке ентеробактериј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bsiella spp., Serratia spp.,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monas aerugino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неферментативн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 spp.,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0520" y="228600"/>
            <a:ext cx="8574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influenz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ni sincicijalni 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parainfluenz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cella-Zoster virus (VZ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V1, HSV2, VZ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avirusi i noroviru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rwalk-like vir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 путем крви, крвних продуката или контаминираним инструмен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humane imunodeficijencije (HI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B virus (HB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C virus (HC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18260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иц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с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 spp. (C. albicans, C. tropicalis, C. glabrata, C. parapsilosis, C. krusei, C. lusitanae,...), Malassezia furfur, M. pachydermatis,Trichosporon beigel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с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spp., Penicillium spp., Acremonium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r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pus spp., Mucor spp., Absidia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219320" y="15192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ћ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кратн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фек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аг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иран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ктив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компромитова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кличав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авирус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луенц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с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676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НАМИРНИЦЕ ЖИВОТИЊСКОГ ПОРЕК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0" y="0"/>
            <a:ext cx="9144000" cy="82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ПРАЂЕВИ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пр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вине су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ирови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ли пр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ни делови ж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вотиња који се користе у исхрани људ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Може бити 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Домаћих животи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говеђе, свињско, кокошије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Дивљих животи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срнеће, дивље свиње, фазанско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Просечно месо садр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50-70% вод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5-20% беланчевин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2-50% ма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ера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ер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K, F, Mg, Fe, Co, Cu, Zn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та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(B grupe, A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ибе су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гат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сенцијалним аминокиселинама 16-23%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авни извор Ј, мањеCa, Na, Z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а може б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л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лић, пастрм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изак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до 4%), а висок воде (74-80%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сн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куш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аран, лосос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сок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до 10%) а нижи воде (до 70%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кољке и раков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7:49:33Z</dcterms:created>
  <dc:creator>Windows User</dc:creator>
  <dc:description/>
  <dc:language>en-US</dc:language>
  <cp:lastModifiedBy>Maja</cp:lastModifiedBy>
  <dcterms:modified xsi:type="dcterms:W3CDTF">2020-09-28T11:36:07Z</dcterms:modified>
  <cp:revision>82</cp:revision>
  <dc:subject/>
  <dc:title>Slide 1</dc:title>
</cp:coreProperties>
</file>